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6244-6DD4-4EE6-9E5E-5C82CD475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7B99-75E2-4318-A6F6-4C39535D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0DAB-4D92-44FB-BC20-9ACA23E04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DEBC-D761-469E-BD03-47B3C0A7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7680-56C4-48AD-9790-EDF75C622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7C2F-89AB-4A0E-8C54-F46551A8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DB61-8C8C-448C-825D-2413ED98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2E47-A5A3-4515-8AF9-A6B788E9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95E1-E4BB-4DE8-947E-F4253ABF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4FB5-393C-4C1C-B548-952C58E1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C344-E119-4586-8FC3-B57FDD87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65DE-E229-4DA3-B394-5CD220C7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B1B8-DBD7-41BF-8622-4F8C39BE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2B1F-146F-41D7-9A96-C89C9B43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B20A-2E1A-4ECC-82CB-CD02206A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9B28-1559-4E4D-933E-D2C16DE29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4994-250D-4A2C-A8AD-A0446870D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C645-7B54-48DD-B4C8-F0AB19E0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89FF-E40D-4A62-82BB-1F8B51BA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1867-2CC8-46E6-B87E-BD993F85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1617-0C1C-43E9-814D-862669BB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32E2-F606-43B1-B94A-D017C3E4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E49E-4ADC-48BF-84C7-73812223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C3CA-94C1-45BE-BDDB-38EAD98B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2704-947A-4850-83C0-C89180A925E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771640" y="458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A084-A017-4E91-A820-80EF04F8DD4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ООО «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GREEN FOREST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»ПРДСТОВЛЯЕТ: ТЕТРАДИ НОВОГО ПОКОЛЕНИЯ!!!!!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6435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-612720" y="-334800"/>
            <a:ext cx="10801440" cy="7238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90520" y="765000"/>
            <a:ext cx="8835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3d"/>
                </a:solidFill>
                <a:latin typeface="Arial Black"/>
              </a:rPr>
              <a:t>Покупая наш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3d"/>
                </a:solidFill>
                <a:latin typeface="Arial Black"/>
              </a:rPr>
              <a:t>                      </a:t>
            </a:r>
            <a:r>
              <a:rPr b="1" lang="en-US" sz="5400" spc="-1" strike="noStrike">
                <a:solidFill>
                  <a:srgbClr val="ffff3d"/>
                </a:solidFill>
                <a:latin typeface="Arial Black"/>
              </a:rPr>
              <a:t>продукцию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98283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ipe dir="l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75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86435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90885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07040" y="1009800"/>
            <a:ext cx="79790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00"/>
                </a:solidFill>
                <a:latin typeface="Arial Black"/>
              </a:rPr>
              <a:t>…</a:t>
            </a:r>
            <a:r>
              <a:rPr b="0" lang="en-US" sz="5400" spc="-1" strike="noStrike">
                <a:solidFill>
                  <a:srgbClr val="00cc00"/>
                </a:solidFill>
                <a:latin typeface="Arial Black"/>
              </a:rPr>
              <a:t>Вы сохраняете н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00"/>
                </a:solidFill>
                <a:latin typeface="Arial Black"/>
              </a:rPr>
              <a:t>          </a:t>
            </a:r>
            <a:r>
              <a:rPr b="0" lang="en-US" sz="5400" spc="-1" strike="noStrike">
                <a:solidFill>
                  <a:srgbClr val="00cc00"/>
                </a:solidFill>
                <a:latin typeface="Arial Black"/>
              </a:rPr>
              <a:t>только 1 дерево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9468000" y="7677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946800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175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86435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33665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51240" y="1341360"/>
            <a:ext cx="743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5400" spc="-1" strike="noStrike">
                <a:solidFill>
                  <a:srgbClr val="ff0000"/>
                </a:solidFill>
                <a:latin typeface="Arial Black"/>
              </a:rPr>
              <a:t>но и всю природу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 spokes="1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86435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ши тетради произведены из вторичного материала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этому, покупая нашу продукцию вы ни только сэкономите  деньги, но и сохраните  ПРИРОДУ!!!!!!!!!!!!!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427640" y="2133720"/>
            <a:ext cx="3816360" cy="3095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horz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9700"/>
                            </p:stCondLst>
                            <p:childTnLst>
                              <p:par>
                                <p:cTn id="1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186435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ю информацию о нашей продукции вы можете найти на сайт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ww. listic. R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ли по номер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-15-4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643280" y="2060640"/>
            <a:ext cx="3745080" cy="3024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00"/>
                            </p:stCondLst>
                            <p:childTnLst>
                              <p:par>
                                <p:cTn id="1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86435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80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СЛИ ВЫ ЛЮБИТЕ ПРИРОДУ И ХОТИТЕ ЕЁ СБЕРЕЧЬ, ЭТО ПРЕДЛОЖЕНИЕ СПЕЦИАЛЬНО ДЛЯ ВАС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284720" y="2013120"/>
            <a:ext cx="4464000" cy="3305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push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86435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-324000" y="-819000"/>
            <a:ext cx="10515600" cy="7886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879480" y="-34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324000" y="0"/>
            <a:ext cx="1044108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3d"/>
                </a:solidFill>
                <a:latin typeface="Arial Black"/>
              </a:rPr>
              <a:t>Если вам не безразличн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3d"/>
                </a:solidFill>
                <a:latin typeface="Arial Black"/>
              </a:rPr>
              <a:t>  </a:t>
            </a:r>
            <a:r>
              <a:rPr b="1" lang="en-US" sz="6000" spc="-1" strike="noStrike">
                <a:solidFill>
                  <a:srgbClr val="ffff3d"/>
                </a:solidFill>
                <a:latin typeface="Arial Black"/>
              </a:rPr>
              <a:t>русская природа…</a:t>
            </a:r>
            <a:r>
              <a:rPr b="0" lang="en-US" sz="4800" spc="-1" strike="noStrike">
                <a:solidFill>
                  <a:srgbClr val="ffff3d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990108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5000">
    <p:checker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625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86435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49920" y="2421000"/>
            <a:ext cx="7913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6600" spc="-1" strike="noStrike">
                <a:solidFill>
                  <a:srgbClr val="ffffff"/>
                </a:solidFill>
                <a:latin typeface="Arial Black"/>
              </a:rPr>
              <a:t>…</a:t>
            </a:r>
            <a:r>
              <a:rPr b="1" lang="en-US" sz="6600" spc="-1" strike="noStrike">
                <a:solidFill>
                  <a:srgbClr val="ffffff"/>
                </a:solidFill>
                <a:latin typeface="Arial Black"/>
              </a:rPr>
              <a:t>родной лес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914400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trips dir="l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25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86435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0"/>
            <a:ext cx="8604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5400" spc="-1" strike="noStrike">
                <a:solidFill>
                  <a:srgbClr val="ff0000"/>
                </a:solidFill>
                <a:latin typeface="Arial Black"/>
              </a:rPr>
              <a:t>…</a:t>
            </a:r>
            <a:r>
              <a:rPr b="1" lang="en-US" sz="5400" spc="-1" strike="noStrike">
                <a:solidFill>
                  <a:srgbClr val="ff0000"/>
                </a:solidFill>
                <a:latin typeface="Arial Black"/>
              </a:rPr>
              <a:t>если вы</a:t>
            </a:r>
            <a:r>
              <a:rPr b="1" lang="en-US" sz="72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 Black"/>
              </a:rPr>
              <a:t>хотите…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 spokes="8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5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86435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-36360" y="-1692360"/>
            <a:ext cx="11399760" cy="8550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676160" y="-963720"/>
            <a:ext cx="80949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ffff3d"/>
                </a:solidFill>
                <a:latin typeface="Arial Black"/>
              </a:rPr>
              <a:t>…</a:t>
            </a:r>
            <a:r>
              <a:rPr b="1" lang="en-US" sz="5400" spc="-1" strike="noStrike">
                <a:solidFill>
                  <a:srgbClr val="ffff3d"/>
                </a:solidFill>
                <a:latin typeface="Arial Black"/>
              </a:rPr>
              <a:t>чтобы ваши дети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06203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86435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33336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видели эту красоту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914400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 spokes="1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86435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10188720" cy="7642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53200" y="4653000"/>
            <a:ext cx="840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cf340"/>
                </a:solidFill>
                <a:latin typeface="Arial Black"/>
              </a:rPr>
              <a:t>…</a:t>
            </a:r>
            <a:r>
              <a:rPr b="1" lang="en-US" sz="5400" spc="-1" strike="noStrike">
                <a:solidFill>
                  <a:srgbClr val="fcf340"/>
                </a:solidFill>
                <a:latin typeface="Arial Black"/>
              </a:rPr>
              <a:t>которую видим мы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98283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86435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-541440" y="-654120"/>
            <a:ext cx="11234880" cy="75614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-90360" y="-162000"/>
            <a:ext cx="18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8320" y="270000"/>
            <a:ext cx="7500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Black"/>
              </a:rPr>
              <a:t>…</a:t>
            </a:r>
            <a:r>
              <a:rPr b="1" lang="en-US" sz="5400" spc="-1" strike="noStrike">
                <a:solidFill>
                  <a:srgbClr val="ff0000"/>
                </a:solidFill>
                <a:latin typeface="Arial Black"/>
              </a:rPr>
              <a:t>берегите природу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0188720" y="-60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0333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86435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233665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08:47:25Z</dcterms:created>
  <dc:creator>expert</dc:creator>
  <dc:description/>
  <dc:language>en-US</dc:language>
  <cp:lastModifiedBy>User</cp:lastModifiedBy>
  <dcterms:modified xsi:type="dcterms:W3CDTF">2008-01-28T11:14:16Z</dcterms:modified>
  <cp:revision>19</cp:revision>
  <dc:subject/>
  <dc:title>ООО «GREEN FOREST»ПРДСТОВЛЯЯТ: ТЕТРАДИ НОВОГО ПАКОЛЕНИЯ!!!!!</dc:title>
</cp:coreProperties>
</file>